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124-7F38-414A-9DC4-B62F4EB9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CB1-7ED4-4464-99CC-A60E66EBA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rakai forest (Lithuania?) from: http://andreasmoser.wordpress.com/2012/07/07/trak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7B3-2D6D-4B08-8338-D66B9BE8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Krau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ubmoss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103-7B3E-4A32-9892-F99A30F1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assachussets fern from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dox/altg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F6F5-C4CE-4948-88AD-F145B008F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7070-4C27-42C6-9B75-929F7914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ch3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3AF6-0884-441B-B29E-1B488A7E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clc.uc.edu/courses/bio106/gymnosp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50F-70CA-483A-A9AE-3C4DE3D4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labs.utah.edu/sperry/proj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CD30-1627-42E4-9694-EDD5D100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botany317/session-2/eukaryotes/plants/session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0EFC-7214-483E-9C95-F1146EFF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ssex3d.com/avon-wheatbelt/flower-and-honeye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9896-7344-4D75-8AAD-1DAA2FA9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learner.org/courses/essential/life/session4/closer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882-6592-4093-88C4-36C4D346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aphicpanic.com/beautiful-leaves-backgroun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244-3E94-4366-B55C-842CB9B9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spaliers.com.au/maintaining-your-plan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HEWmanoj@6/Evolution-of-Seed-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DED1-8C00-49BC-9AB5-022A6AC7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ustanswer.com/tax/0e5hx-cross-section-monocot-lea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491-58A6-4FBD-8515-C52DD867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hioplants.org/bryophytes-introdu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D52-C20D-411B-A8CD-B10980CB5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CB5-2BF8-44CC-8CB4-BE8BACFD0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fkeep.org/html/stitch.php?s=54373324154293&amp;id=7774881383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Moss_alternation_of_generations_03-201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25A0-3F6A-4675-A544-2AA94F133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2FF-5314-442B-958B-E15AD802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BEE-8AFC-47FE-A84F-FA177EB3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F79-B7ED-4531-817A-783951FC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C28-AC6A-4B29-A2EE-57F4191A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5F0-3779-4006-B346-0956E446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060-0F6E-4924-A8D6-EE6D030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CAC-BB53-49F3-B1F5-746094CF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859-3108-4335-8FB4-4277C3B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C84-BC91-421F-9FD0-44D367E3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F27-0BDF-4E47-A2CE-090A43B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DBA-543E-4BC4-86BA-05E097ED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BBC-1711-4D8A-A823-DCB660B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39E9-B55B-45D6-A70B-EDF9C0EB7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cophytes (club m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SCF6428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erophytes (ferns &amp; relativ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N3187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fern_altgen.jpg"/>
          <p:cNvPicPr/>
          <p:nvPr/>
        </p:nvPicPr>
        <p:blipFill>
          <a:blip r:embed="rId1"/>
          <a:srcRect l="-13344" t="0" r="-1334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30_04aGymnospermConiferophyta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SC 9805&amp;06 male &amp; female pine cones 3"/>
          <p:cNvPicPr/>
          <p:nvPr/>
        </p:nvPicPr>
        <p:blipFill>
          <a:blip r:embed="rId1"/>
          <a:stretch/>
        </p:blipFill>
        <p:spPr>
          <a:xfrm>
            <a:off x="938160" y="1676520"/>
            <a:ext cx="7267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asal angiosperms"/>
          <p:cNvPicPr/>
          <p:nvPr/>
        </p:nvPicPr>
        <p:blipFill>
          <a:blip r:embed="rId1"/>
          <a:stretch/>
        </p:blipFill>
        <p:spPr>
          <a:xfrm>
            <a:off x="1495440" y="1600200"/>
            <a:ext cx="622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Angiosperms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s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how4"/>
          <p:cNvPicPr/>
          <p:nvPr/>
        </p:nvPicPr>
        <p:blipFill>
          <a:blip r:embed="rId1"/>
          <a:stretch/>
        </p:blipFill>
        <p:spPr>
          <a:xfrm>
            <a:off x="1577880" y="1981080"/>
            <a:ext cx="598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are photo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composed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lants are ses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for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uses (medicines, clothing, wood, paper product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nci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reen alg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characteristics with present-day charophytes: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ther pigments, formation of cell plate, cellulose in cell wall, use of starch as storage molecul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5" descr="Figure_26_01_06.jpg"/>
          <p:cNvPicPr/>
          <p:nvPr/>
        </p:nvPicPr>
        <p:blipFill>
          <a:blip r:embed="rId1"/>
          <a:srcRect l="-5715" t="0" r="-5715" b="0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to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trategies to prevent water loss while allowing gas exchang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2" descr="2006-10-05_174206_monocot_leaf.jpg"/>
          <p:cNvPicPr/>
          <p:nvPr/>
        </p:nvPicPr>
        <p:blipFill>
          <a:blip r:embed="rId1"/>
          <a:srcRect l="0" t="-25554" r="0" b="-25554"/>
          <a:stretch/>
        </p:blipFill>
        <p:spPr>
          <a:xfrm>
            <a:off x="4427640" y="1700280"/>
            <a:ext cx="432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Majo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plantkingdom.gif"/>
          <p:cNvPicPr/>
          <p:nvPr/>
        </p:nvPicPr>
        <p:blipFill>
          <a:blip r:embed="rId1"/>
          <a:srcRect l="-30125" t="0" r="-3012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phpThumb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Moss_alternation_of_generations_03-2012.png"/>
          <p:cNvPicPr/>
          <p:nvPr/>
        </p:nvPicPr>
        <p:blipFill>
          <a:blip r:embed="rId1"/>
          <a:srcRect l="-6662" t="0" r="-666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3:08:23Z</dcterms:created>
  <dc:creator>rubina khan</dc:creator>
  <dc:description/>
  <dc:language>en-US</dc:language>
  <cp:lastModifiedBy>rubina khan</cp:lastModifiedBy>
  <dcterms:modified xsi:type="dcterms:W3CDTF">2017-04-03T10:41:07Z</dcterms:modified>
  <cp:revision>43</cp:revision>
  <dc:subject/>
  <dc:title>PowerPoint Presentation</dc:title>
</cp:coreProperties>
</file>